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2.jpeg" ContentType="image/jpeg"/>
  <Override PartName="/ppt/media/image10.jpeg" ContentType="image/jpeg"/>
  <Override PartName="/ppt/media/image5.png" ContentType="image/png"/>
  <Override PartName="/ppt/media/image30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1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F76B-DF2F-4D01-8575-A36B5210C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9704-5356-4E0F-9487-29FD7ABB1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1AF1-659E-474C-8B9C-2F62578B5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88F2-5F20-4A0D-B09E-FD34C046C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E1F-35EB-41CF-8F3A-359E50EC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CF4-DE9F-4B34-B847-9D776F4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E5A-2B66-40A8-A821-00DDAE66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B56-2EC3-4580-9EFB-25D768E4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1855-07BB-4208-827F-B316CCB8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5AB7-DEF6-4ACB-9362-EC4E06BC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2465-180C-46B2-A2B1-CFC4B470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60DD-3952-4D90-997C-4FC47489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CE91-F818-4B36-9AA6-336FE853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C273-AA0E-421E-9B7C-26D870D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CF8-17FD-4D4E-BAC5-9984AD3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2D8-21BF-4D93-A4C3-9A504933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771D-8CCF-4442-8B31-9301812F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A721-68EB-4544-B845-B6A57D3B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7C96-46DE-4FD5-AA9C-5B8C61DF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54DD-2C5D-4A6C-925A-F7CBC32C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4338-AE03-4C4B-B244-C4924E7F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2160-DC0C-4006-A7B5-BCD50C41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377E-CA09-4BE6-B401-B318BA2B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6410-6A86-4FCF-91C6-172CFBF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ACB8-1B94-451B-A9A1-152845D9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7FD8-5E2A-41A3-A261-A2DB0FC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D5E-A013-41E0-92BE-7170EC78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32B7-3D72-45C7-9300-A23E882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DA1F-FC9C-4B4A-A00F-7A86BBC5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1E8D-45AE-498A-A4D9-18ADBA25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3A61-330C-49E5-962F-9BA6B601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5869-A363-4326-8B56-C4320EDD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A988-7C3B-49B1-8AA0-ABCF1B83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9D13-73C9-4B81-B043-133247B0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22A7-D1A2-4445-A727-BF67EC59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5C70-D532-4CA8-9522-BCF0F896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44A1-A987-4118-89AF-54F380E3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ACD-7D64-485C-A52D-845B9296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C13F-6377-4CF7-9FED-F377007E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9B12-D36C-4902-9330-90E051E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F5A6-DF56-4209-96EF-7243E8E8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6FB94-7380-485F-9BC3-360C7E97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C98D-F341-447A-8C5B-A001FBB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8EDCE-C4B7-4EAD-ABFA-5085F48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D476-E67A-4AA3-9D73-45A8461C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35CA-4335-4318-9927-21BCBEFB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AD05-22FF-417E-A52E-64DE76EF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FAB-5DFA-4C4E-A4CD-AC88FB82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0D5-9EDC-4548-B560-F81CA7B2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9BF-807B-4AFF-AECC-FB38F580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078-1907-448E-8190-FAF811D8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A99-1956-482F-AD76-79FADB3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5640-AB27-43DD-8663-FEF17B80BE2C}" type="slidenum"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679E-9F31-4A41-BD50-1E441825B91F}" type="slidenum"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E501-AFB2-47C0-982E-1DF1395DEF01}" type="slidenum"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1993-6AC8-4CF9-A1DC-AD2090D6CF4C}" type="slidenum"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8540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s the plasma membrane symmetrical?  Why or why not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types of substances cross the membrane the fastest? Why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xplain the concept of water potential. (Hint: Refer to Lab 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he freeze-fracture method: revealed the structure of membrane’s interio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3" descr="07_04_FreezeFracture-L.jpg"/>
          <p:cNvPicPr/>
          <p:nvPr/>
        </p:nvPicPr>
        <p:blipFill>
          <a:blip r:embed="rId1"/>
          <a:stretch/>
        </p:blipFill>
        <p:spPr>
          <a:xfrm>
            <a:off x="2162160" y="1935000"/>
            <a:ext cx="48196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Fluid Mosaic Mode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Content Placeholder 3" descr="07_03FluidMosaicModel-L.jpg"/>
          <p:cNvPicPr/>
          <p:nvPr/>
        </p:nvPicPr>
        <p:blipFill>
          <a:blip r:embed="rId1"/>
          <a:stretch/>
        </p:blipFill>
        <p:spPr>
          <a:xfrm>
            <a:off x="1149480" y="2185920"/>
            <a:ext cx="68450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07_05PlasmaMembrane-L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Phospholipid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560" y="1687680"/>
            <a:ext cx="380988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la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hydrophilic head, hydrophobic ta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phobic barrier: keeps hydrophilic molecules o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3" descr="07_02PhospholipidBilayer-L.jpg"/>
          <p:cNvPicPr/>
          <p:nvPr/>
        </p:nvPicPr>
        <p:blipFill>
          <a:blip r:embed="rId1"/>
          <a:stretch/>
        </p:blipFill>
        <p:spPr>
          <a:xfrm>
            <a:off x="4038480" y="160020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0432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Membrane fluidit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1920" y="1534680"/>
            <a:ext cx="495324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Low temp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hospholipids w/unsaturated tails (kinks prevent close pack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holestero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sists changes b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mit fluidity at high te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nder close packing at low te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s: bacteria in hot springs (unusual lipids); winter wheat (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unsaturated phospholipi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4" descr="07_08MembraneFluidFactor-L.jpg"/>
          <p:cNvPicPr/>
          <p:nvPr/>
        </p:nvPicPr>
        <p:blipFill>
          <a:blip r:embed="rId1"/>
          <a:stretch/>
        </p:blipFill>
        <p:spPr>
          <a:xfrm>
            <a:off x="5105520" y="1887480"/>
            <a:ext cx="4038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embrane Prote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6348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Integral 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4720" y="156348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Peripheral 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2172960"/>
            <a:ext cx="4040280" cy="46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Embedd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d by freeze fra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membrane with hydrophilic heads/tails and hydrophobic midd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2960"/>
            <a:ext cx="4041720" cy="46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or cytoplasmic sides of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embedd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d in place by the cytoskeleton or EC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stronger fra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31"/>
          <p:cNvSpPr/>
          <p:nvPr/>
        </p:nvSpPr>
        <p:spPr>
          <a:xfrm>
            <a:off x="838080" y="594360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l &amp; Peripheral prote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03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25360" y="755640"/>
            <a:ext cx="8699400" cy="774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07_09TransmembProtein-L.jpg"/>
          <p:cNvPicPr/>
          <p:nvPr/>
        </p:nvPicPr>
        <p:blipFill>
          <a:blip r:embed="rId2"/>
          <a:stretch/>
        </p:blipFill>
        <p:spPr>
          <a:xfrm>
            <a:off x="2286000" y="1595520"/>
            <a:ext cx="4038480" cy="4981320"/>
          </a:xfrm>
          <a:prstGeom prst="rect">
            <a:avLst/>
          </a:prstGeom>
          <a:ln w="0">
            <a:noFill/>
          </a:ln>
        </p:spPr>
      </p:pic>
      <p:sp>
        <p:nvSpPr>
          <p:cNvPr id="242" name="Right Arrow 8"/>
          <p:cNvSpPr/>
          <p:nvPr/>
        </p:nvSpPr>
        <p:spPr>
          <a:xfrm>
            <a:off x="2590920" y="3657600"/>
            <a:ext cx="2444760" cy="48420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ight Arrow 9"/>
          <p:cNvSpPr/>
          <p:nvPr/>
        </p:nvSpPr>
        <p:spPr>
          <a:xfrm rot="12025200">
            <a:off x="4976280" y="2985840"/>
            <a:ext cx="1919520" cy="485640"/>
          </a:xfrm>
          <a:prstGeom prst="rightArrow">
            <a:avLst>
              <a:gd name="adj1" fmla="val 50000"/>
              <a:gd name="adj2" fmla="val 49901"/>
            </a:avLst>
          </a:prstGeom>
          <a:solidFill>
            <a:srgbClr val="0690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ight Arrow 10"/>
          <p:cNvSpPr/>
          <p:nvPr/>
        </p:nvSpPr>
        <p:spPr>
          <a:xfrm rot="9754800">
            <a:off x="4981320" y="4576680"/>
            <a:ext cx="1931760" cy="48600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0690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0" y="34290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Hydrophobic inter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6934320" y="35053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009"/>
                </a:solidFill>
                <a:latin typeface="Times New Roman"/>
              </a:rPr>
              <a:t>Hydrophilic en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07_10_MembProteinFunction-L.jpg"/>
          <p:cNvPicPr/>
          <p:nvPr/>
        </p:nvPicPr>
        <p:blipFill>
          <a:blip r:embed="rId1"/>
          <a:stretch/>
        </p:blipFill>
        <p:spPr>
          <a:xfrm>
            <a:off x="2617920" y="274680"/>
            <a:ext cx="6449760" cy="65833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0" y="2209680"/>
            <a:ext cx="26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me functions of membrane prote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87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un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cell-cell recognition; develop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lycolipids, glyco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blood transfusions are type-speci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1143000" y="32940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0980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are glycoproteins and glycolipids and what is their function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ow d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substances cross the cell membrane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y does water move through the bi-layer quickly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ynthesis and sidedness of membran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3" descr="07_12MembraneSynthesis-L.jpg"/>
          <p:cNvPicPr/>
          <p:nvPr/>
        </p:nvPicPr>
        <p:blipFill>
          <a:blip r:embed="rId1"/>
          <a:stretch/>
        </p:blipFill>
        <p:spPr>
          <a:xfrm>
            <a:off x="762120" y="990720"/>
            <a:ext cx="747396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lective Permeab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69009"/>
                </a:solidFill>
                <a:uFillTx/>
                <a:latin typeface="Constantia"/>
              </a:rPr>
              <a:t>Small molecules 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(polar or nonpolar) cross easily (hydrocarbons, hydrophobic molecules, CO</a:t>
            </a:r>
            <a:r>
              <a:rPr b="0" lang="en-US" sz="2600" spc="-1" strike="noStrike" baseline="-25000">
                <a:solidFill>
                  <a:srgbClr val="069009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, O</a:t>
            </a:r>
            <a:r>
              <a:rPr b="0" lang="en-US" sz="2600" spc="-1" strike="noStrike" baseline="-25000">
                <a:solidFill>
                  <a:srgbClr val="069009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Hydrophobic core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prevents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 passage of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ions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,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large polar molecu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3684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ENERGY needed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iffusion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2060"/>
                </a:solidFill>
                <a:latin typeface="Constantia"/>
              </a:rPr>
              <a:t>down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55a839"/>
                </a:solidFill>
                <a:uFillTx/>
                <a:latin typeface="Constantia"/>
              </a:rPr>
              <a:t>concentration gradient</a:t>
            </a:r>
            <a:r>
              <a:rPr b="0" lang="en-US" sz="2600" spc="-1" strike="noStrike">
                <a:solidFill>
                  <a:srgbClr val="55a83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ow concentr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hydrocarbons,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07_13aDiffusionMembrane-L.jpg"/>
          <p:cNvPicPr/>
          <p:nvPr/>
        </p:nvPicPr>
        <p:blipFill>
          <a:blip r:embed="rId1"/>
          <a:stretch/>
        </p:blipFill>
        <p:spPr>
          <a:xfrm>
            <a:off x="1447920" y="3583080"/>
            <a:ext cx="64008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Content Placeholder 3" descr="07_13bDiffusionMembrane-L.jpg"/>
          <p:cNvPicPr/>
          <p:nvPr/>
        </p:nvPicPr>
        <p:blipFill>
          <a:blip r:embed="rId1"/>
          <a:stretch/>
        </p:blipFill>
        <p:spPr>
          <a:xfrm>
            <a:off x="457200" y="2111400"/>
            <a:ext cx="82296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ontent Placeholder 3" descr="07_14Osmosis-L.jpg"/>
          <p:cNvPicPr/>
          <p:nvPr/>
        </p:nvPicPr>
        <p:blipFill>
          <a:blip r:embed="rId1"/>
          <a:stretch/>
        </p:blipFill>
        <p:spPr>
          <a:xfrm>
            <a:off x="2590920" y="290520"/>
            <a:ext cx="6172200" cy="6289560"/>
          </a:xfrm>
          <a:prstGeom prst="rect">
            <a:avLst/>
          </a:prstGeom>
          <a:ln w="0">
            <a:noFill/>
          </a:ln>
        </p:spPr>
      </p:pic>
      <p:pic>
        <p:nvPicPr>
          <p:cNvPr id="262" name="Title 5" descr=""/>
          <p:cNvPicPr/>
          <p:nvPr/>
        </p:nvPicPr>
        <p:blipFill>
          <a:blip r:embed="rId2"/>
          <a:stretch/>
        </p:blipFill>
        <p:spPr>
          <a:xfrm>
            <a:off x="407880" y="4022640"/>
            <a:ext cx="35053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19240" y="30240"/>
            <a:ext cx="8662680" cy="1158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07_15WaterBalance-L.jpg"/>
          <p:cNvPicPr/>
          <p:nvPr/>
        </p:nvPicPr>
        <p:blipFill>
          <a:blip r:embed="rId2"/>
          <a:stretch/>
        </p:blipFill>
        <p:spPr>
          <a:xfrm>
            <a:off x="685800" y="1384200"/>
            <a:ext cx="79344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smoreg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12800"/>
            <a:ext cx="845820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ol solute &amp; water bal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ntractile vacuo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lge pump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ces out fresh water as it enters by 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paramecium caudatum – freshwater prot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5" descr="07_16ContractileVacuole-L.jpg"/>
          <p:cNvPicPr/>
          <p:nvPr/>
        </p:nvPicPr>
        <p:blipFill>
          <a:blip r:embed="rId1"/>
          <a:stretch/>
        </p:blipFill>
        <p:spPr>
          <a:xfrm>
            <a:off x="1219320" y="3503520"/>
            <a:ext cx="6858000" cy="32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07_UN01Summary_C3-L.jpg"/>
          <p:cNvPicPr/>
          <p:nvPr/>
        </p:nvPicPr>
        <p:blipFill>
          <a:blip r:embed="rId1"/>
          <a:stretch/>
        </p:blipFill>
        <p:spPr>
          <a:xfrm>
            <a:off x="4191120" y="2743200"/>
            <a:ext cx="4800600" cy="40402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cilitated Diff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828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onstantia"/>
              </a:rPr>
              <a:t>Transport proteins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channel or carrier proteins) hel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hydrophilic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ubstance cro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304920" y="2819520"/>
            <a:ext cx="487656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1) Provide hydrophilic channel or (2) loosely bind/carry molecule acros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ions, polar molecules 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, glucose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773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2060"/>
                </a:solidFill>
                <a:uFillTx/>
                <a:latin typeface="Calibri"/>
              </a:rPr>
              <a:t>Aquaporin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 channel protein that allows passage of H</a:t>
            </a:r>
            <a:r>
              <a:rPr b="0" lang="en-US" sz="3600" spc="-1" strike="noStrike" baseline="-25000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Picture 4" descr="http://www.bionaid.us/aquaporin.jpg"/>
          <p:cNvPicPr/>
          <p:nvPr/>
        </p:nvPicPr>
        <p:blipFill>
          <a:blip r:embed="rId1"/>
          <a:stretch/>
        </p:blipFill>
        <p:spPr>
          <a:xfrm>
            <a:off x="4572000" y="2895480"/>
            <a:ext cx="3686040" cy="3114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ttp://virtuallaboratory.colorado.edu/BioFun-Support/AllGraphics/Aquaporin%20and%20Water.jpg"/>
          <p:cNvPicPr/>
          <p:nvPr/>
        </p:nvPicPr>
        <p:blipFill>
          <a:blip r:embed="rId2"/>
          <a:stretch/>
        </p:blipFill>
        <p:spPr>
          <a:xfrm>
            <a:off x="1066680" y="2666880"/>
            <a:ext cx="25146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176040" y="1195560"/>
            <a:ext cx="8596440" cy="944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www.prism.gatech.edu/~gh19/b1510/gluctran.gif"/>
          <p:cNvPicPr/>
          <p:nvPr/>
        </p:nvPicPr>
        <p:blipFill>
          <a:blip r:embed="rId2"/>
          <a:stretch/>
        </p:blipFill>
        <p:spPr>
          <a:xfrm>
            <a:off x="609480" y="2590920"/>
            <a:ext cx="7696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lain membrane potential and how it affects the ce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a U-tube, side A has 4 M glucose and 2 M NaCl. Side B has 2M glucose and 6 M NaCl. Initially, side A is ____ to side 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side B is ____ to side A.  What happens if the membrane is permeable to both solutes?  Only permeable to water and NaCl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NER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T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 transport substances </a:t>
            </a:r>
            <a:r>
              <a:rPr b="1" i="1" lang="en-US" sz="2600" spc="-1" strike="noStrike">
                <a:solidFill>
                  <a:srgbClr val="002060"/>
                </a:solidFill>
                <a:latin typeface="Constantia"/>
              </a:rPr>
              <a:t>against</a:t>
            </a:r>
            <a:r>
              <a:rPr b="0" lang="en-US" sz="2600" spc="-1" strike="noStrike">
                <a:solidFill>
                  <a:srgbClr val="9900cc"/>
                </a:solidFill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069009"/>
                </a:solidFill>
                <a:uFillTx/>
                <a:latin typeface="Constantia"/>
              </a:rPr>
              <a:t>concentration gradient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low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igh con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ump, proton pu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4" descr="07_UN02Summary_C4-L.jpg"/>
          <p:cNvPicPr/>
          <p:nvPr/>
        </p:nvPicPr>
        <p:blipFill>
          <a:blip r:embed="rId1"/>
          <a:stretch/>
        </p:blipFill>
        <p:spPr>
          <a:xfrm>
            <a:off x="6400800" y="1600200"/>
            <a:ext cx="221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99"/>
                </a:solidFill>
                <a:uFillTx/>
                <a:latin typeface="Calibri"/>
              </a:rPr>
              <a:t>Electrogenic Pumps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 generate voltage across membra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Na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Constantia"/>
              </a:rPr>
              <a:t>+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/K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Constantia"/>
              </a:rPr>
              <a:t>+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 Pum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7000" y="168084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Proton Pum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2335320"/>
            <a:ext cx="4040280" cy="384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m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e transmi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797000" y="2335320"/>
            <a:ext cx="4041720" cy="384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sh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cross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g. mitochondria (ATP producti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6" descr="07_18SodiumPotassPump_6-L.jpg"/>
          <p:cNvPicPr/>
          <p:nvPr/>
        </p:nvPicPr>
        <p:blipFill>
          <a:blip r:embed="rId1"/>
          <a:stretch/>
        </p:blipFill>
        <p:spPr>
          <a:xfrm>
            <a:off x="152280" y="3429000"/>
            <a:ext cx="4502160" cy="3271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07_20ProtonPump-L.jpg"/>
          <p:cNvPicPr/>
          <p:nvPr/>
        </p:nvPicPr>
        <p:blipFill>
          <a:blip r:embed="rId2"/>
          <a:stretch/>
        </p:blipFill>
        <p:spPr>
          <a:xfrm>
            <a:off x="5022720" y="4024440"/>
            <a:ext cx="38926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Calibri"/>
              </a:rPr>
              <a:t>Cotransport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: membrane protein enables 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ownhill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diffusion of one solute to drive 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phill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transport of oth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240" y="1905120"/>
            <a:ext cx="89154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sucrose-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cotransporter (sugar-loading in plant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8" descr="07_21Cotransport-L.jpg"/>
          <p:cNvPicPr/>
          <p:nvPr/>
        </p:nvPicPr>
        <p:blipFill>
          <a:blip r:embed="rId1"/>
          <a:stretch/>
        </p:blipFill>
        <p:spPr>
          <a:xfrm>
            <a:off x="1981080" y="2494080"/>
            <a:ext cx="56390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Passive vs. Active Transpor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11276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ttle or no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ow concen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69009"/>
                </a:solidFill>
                <a:latin typeface="Constantia"/>
              </a:rPr>
              <a:t>DOW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concentration grad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diffusion, osmosis, facilitated diffusion (w/transport prote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952520" y="1112760"/>
            <a:ext cx="40388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Energy (AT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w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igh concen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GAIN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concentration grad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pumps, exo/end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93" name="Right Arrow 2"/>
          <p:cNvGrpSpPr/>
          <p:nvPr/>
        </p:nvGrpSpPr>
        <p:grpSpPr>
          <a:xfrm>
            <a:off x="1523520" y="4992840"/>
            <a:ext cx="1712160" cy="1645920"/>
            <a:chOff x="1523520" y="4992840"/>
            <a:chExt cx="1712160" cy="1645920"/>
          </a:xfrm>
        </p:grpSpPr>
        <p:pic>
          <p:nvPicPr>
            <p:cNvPr id="294" name="Right Arrow 2" descr=""/>
            <p:cNvPicPr/>
            <p:nvPr/>
          </p:nvPicPr>
          <p:blipFill>
            <a:blip r:embed="rId1"/>
            <a:stretch/>
          </p:blipFill>
          <p:spPr>
            <a:xfrm>
              <a:off x="1523520" y="4992840"/>
              <a:ext cx="171216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 rot="2446800">
              <a:off x="1463760" y="5617800"/>
              <a:ext cx="1815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Right Arrow 9"/>
          <p:cNvGrpSpPr/>
          <p:nvPr/>
        </p:nvGrpSpPr>
        <p:grpSpPr>
          <a:xfrm>
            <a:off x="6237000" y="4968720"/>
            <a:ext cx="1607040" cy="1524240"/>
            <a:chOff x="6237000" y="4968720"/>
            <a:chExt cx="1607040" cy="1524240"/>
          </a:xfrm>
        </p:grpSpPr>
        <p:pic>
          <p:nvPicPr>
            <p:cNvPr id="297" name="Right Arrow 9" descr=""/>
            <p:cNvPicPr/>
            <p:nvPr/>
          </p:nvPicPr>
          <p:blipFill>
            <a:blip r:embed="rId2"/>
            <a:stretch/>
          </p:blipFill>
          <p:spPr>
            <a:xfrm>
              <a:off x="6237000" y="4968720"/>
              <a:ext cx="1607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 rot="19144800">
              <a:off x="6199200" y="5546520"/>
              <a:ext cx="1670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07_19PassiveActiveTrans-L.jpg"/>
          <p:cNvPicPr/>
          <p:nvPr/>
        </p:nvPicPr>
        <p:blipFill>
          <a:blip r:embed="rId1"/>
          <a:stretch/>
        </p:blipFill>
        <p:spPr>
          <a:xfrm>
            <a:off x="533520" y="282600"/>
            <a:ext cx="80769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Bulk Transpor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752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ansport of proteins, polysaccharides, large molecu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2" descr="http://4.bp.blogspot.com/_rBYpndaJ_ak/TLZLaM4OCQI/AAAAAAAAARU/8iax7xfb0F4/s1600/Endocytosis+and+Exocytosis.jpg"/>
          <p:cNvPicPr/>
          <p:nvPr/>
        </p:nvPicPr>
        <p:blipFill>
          <a:blip r:embed="rId1"/>
          <a:stretch/>
        </p:blipFill>
        <p:spPr>
          <a:xfrm>
            <a:off x="304920" y="2886120"/>
            <a:ext cx="4667040" cy="32097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5029200" y="289548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docyt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in macromolecules, form new vesic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5029200" y="450864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ocyt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icles fuse with cell membrane, expel cont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07_22_Endocytosis-L.jpg"/>
          <p:cNvPicPr/>
          <p:nvPr/>
        </p:nvPicPr>
        <p:blipFill>
          <a:blip r:embed="rId1"/>
          <a:stretch/>
        </p:blipFill>
        <p:spPr>
          <a:xfrm>
            <a:off x="990720" y="1787400"/>
            <a:ext cx="7238880" cy="5070600"/>
          </a:xfrm>
          <a:prstGeom prst="rect">
            <a:avLst/>
          </a:prstGeom>
          <a:ln w="0">
            <a:noFill/>
          </a:ln>
        </p:spPr>
      </p:pic>
      <p:pic>
        <p:nvPicPr>
          <p:cNvPr id="306" name="Title 3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321760" cy="8478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152280" y="9223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ag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eat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sol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3429000" y="9223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n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drink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lu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5867280" y="4983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eptor-Mediated End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ands bin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fic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cell surf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2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embrane Transpor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7: Warm-Up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de A in a U tube has 5M sucrose and 3 M glucose. Side B has 2 M sucrose and 1 M glucose.  The membrane is permeable to glucose and water  only. What happens to each sid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7: Warm-Up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de A in a U tube has 3 M sucrose and 1 M glucose. Side B has 1 M sucrose and 3 M glucose.  The membrane is permeable to glucose and water  only. What happens to each sid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3" descr=""/>
          <p:cNvPicPr/>
          <p:nvPr/>
        </p:nvPicPr>
        <p:blipFill>
          <a:blip r:embed="rId1"/>
          <a:stretch/>
        </p:blipFill>
        <p:spPr>
          <a:xfrm>
            <a:off x="530280" y="-85680"/>
            <a:ext cx="8308800" cy="190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160" y="17812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embrane Structure and Function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5" descr="07_05PlasmaMembrane-L.jpg"/>
          <p:cNvPicPr/>
          <p:nvPr/>
        </p:nvPicPr>
        <p:blipFill>
          <a:blip r:embed="rId2"/>
          <a:stretch/>
        </p:blipFill>
        <p:spPr>
          <a:xfrm>
            <a:off x="304920" y="2971800"/>
            <a:ext cx="5638680" cy="3627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You Must Know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y membranes are selectively permea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role of phospholipids, proteins, and carbohydrates in membran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water will move if a cell is placed in an isotonic, hypertonic, or hypotonic s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electrochemical gradients are form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Cell Membran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sma membrane is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selectively perme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ws some substances to cross more easily than ot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Fluid Mosaic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Constantia"/>
              </a:rPr>
              <a:t>Flui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embrane held together by weak inter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Constantia"/>
              </a:rPr>
              <a:t>Mosa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hospholipids, proteins, car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Early membrane mode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92240"/>
            <a:ext cx="51055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1935) Davson/Danielli –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andwich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ospholipid bilayer between 2 protein lay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roblem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varying chemical composition of membrane, hydrophobic protein pa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7" descr=""/>
          <p:cNvPicPr/>
          <p:nvPr/>
        </p:nvPicPr>
        <p:blipFill>
          <a:blip r:embed="rId1"/>
          <a:srcRect l="0" t="0" r="65656" b="0"/>
          <a:stretch/>
        </p:blipFill>
        <p:spPr>
          <a:xfrm>
            <a:off x="5486400" y="1905120"/>
            <a:ext cx="3048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2:10:47Z</dcterms:created>
  <dc:creator>David title</dc:creator>
  <dc:description/>
  <dc:language>en-US</dc:language>
  <cp:lastModifiedBy>Chris Nancy Chou</cp:lastModifiedBy>
  <dcterms:modified xsi:type="dcterms:W3CDTF">2012-09-17T04:51:26Z</dcterms:modified>
  <cp:revision>109</cp:revision>
  <dc:subject/>
  <dc:title>Plants - Reproduction</dc:title>
</cp:coreProperties>
</file>